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5E9-CC54-4D4B-A675-52BF964A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BA2-E1F5-4038-A133-A7294C1C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CA7-4592-42E0-B141-8D3A0E33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446-B220-4203-B198-09103C80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DC9-AAA2-4826-8C6E-FAF71FFD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3D3-0737-4EEB-A001-618E7679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68D-D029-497F-A53C-C9F71C86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4E8-4D36-4A6D-9F9F-428B5C42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561-1862-4317-983B-6BBFD7AA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9F9-8E67-4588-9F64-C3E538B6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762-A335-4F85-88FE-0B26E221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EE1-8A07-450D-8BB8-6E175482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674F-5481-4512-AE5E-B50381BE9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532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Showcard Gothic"/>
              </a:rPr>
              <a:t>garai hartan zeuden mapa guztiak irakurri zituen. Indiara iristeko irrikaz zegoen, paraje haietan aberastasun handia zegoelak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Showcard Gothic"/>
              </a:rPr>
              <a:t>Urrian San Salvador uhartera iritsi zen lehenengo aldiz. berak jakin gabe, Mundu Berria aurkitu baitzuen: Ameri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4619520"/>
            <a:ext cx="4681440" cy="2238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35640" y="4027320"/>
            <a:ext cx="28083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05:02Z</dcterms:created>
  <dc:creator>ik015111zz</dc:creator>
  <dc:description/>
  <dc:language>en-US</dc:language>
  <cp:lastModifiedBy>Ik015111zz</cp:lastModifiedBy>
  <dcterms:modified xsi:type="dcterms:W3CDTF">2012-05-17T13:07:09Z</dcterms:modified>
  <cp:revision>13</cp:revision>
  <dc:subject/>
  <dc:title>Kolonen biografia</dc:title>
</cp:coreProperties>
</file>